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516CE-0990-46DF-B5D6-B5F9245F9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9CD9E-1ED6-42AB-99A4-77D813752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6C548-A111-4F40-A700-AA905547E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27C81-41A4-48B7-A1EA-AF331ED56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7F019-FB22-4876-BC5D-6CAF51E2B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AF2BD-57CB-4944-A0B7-4A3E790D0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03620-42A4-4F1B-B52F-189311627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7F049-C3A9-44E5-83BF-D9DA18840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94E69-AA52-4649-9DD1-A2D3F99BB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D9E62-393A-4F0B-B92E-F076C786E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4EE18-B397-4858-B5B3-D187396E7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68935-6868-4D88-B2D3-85E6DC4BA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5B4EF-0093-4FA8-A593-05A7457B9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6132C-24EE-4BCC-9001-598E4F193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B1A60-BB3A-4139-8695-645CC9FE5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C1122-9CD0-4A54-B999-0E71DC90F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336A5-7005-41C8-BFF1-7173C479A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970EA-3214-4F70-98E6-B44467C90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2C3CB-3EE3-4583-A843-A03EDB588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456F2-C9CC-4E1A-949D-72EE4F3B9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494FD-D6BA-40A3-B367-84B9B3548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48892-50BA-4664-AA54-74755DC1E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74BAD-7741-419A-98CF-F0B536193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8BA8E-FBEF-487F-AB00-86B8C94DB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B2ECA-7A72-43E5-A6D3-9CA4BE1FE9FD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63E89-DDF6-4D2C-9CF5-62BA7897A756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9E8FF-38C3-46D4-913B-96B1CC48D67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98984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bbd71"/>
                </a:solidFill>
                <a:latin typeface="Arial"/>
              </a:rPr>
              <a:t>Confidentiality and Privacy in Medical Settings vis-à-vis- PLHIV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133360" y="2322360"/>
            <a:ext cx="5105160" cy="127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June 201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4" name="Picture 4" descr="LC"/>
          <p:cNvPicPr/>
          <p:nvPr/>
        </p:nvPicPr>
        <p:blipFill>
          <a:blip r:embed="rId1">
            <a:lum contrast="10000"/>
          </a:blip>
          <a:stretch/>
        </p:blipFill>
        <p:spPr>
          <a:xfrm>
            <a:off x="1371600" y="4255920"/>
            <a:ext cx="6400800" cy="10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60BE8-506B-48E7-9246-61631688083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dbbd71"/>
                </a:solidFill>
                <a:latin typeface="Arial"/>
              </a:rPr>
              <a:t>DUTY TO THIRD PARTY</a:t>
            </a:r>
            <a:endParaRPr b="0" lang="en-US" sz="4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1520" indent="-371520">
              <a:lnSpc>
                <a:spcPct val="80000"/>
              </a:lnSpc>
              <a:spcBef>
                <a:spcPts val="7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imes New Roman"/>
              </a:rPr>
              <a:t>Duty to patient: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787320" indent="-33012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Times New Roman"/>
              </a:rPr>
              <a:t>Diagnose and counsel patient about HIV and advise an HIV test (</a:t>
            </a:r>
            <a:r>
              <a:rPr b="0" i="1" lang="en-GB" sz="2700" spc="-1" strike="noStrike">
                <a:solidFill>
                  <a:srgbClr val="ffffff"/>
                </a:solidFill>
                <a:latin typeface="Times New Roman"/>
              </a:rPr>
              <a:t>BT v. Oei</a:t>
            </a:r>
            <a:r>
              <a:rPr b="0" lang="en-GB" sz="27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lvl="1" marL="787320" indent="-33012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imes New Roman"/>
              </a:rPr>
              <a:t>to disclose HIV status (</a:t>
            </a:r>
            <a:r>
              <a:rPr b="0" i="1" lang="en-GB" sz="2600" spc="-1" strike="noStrike">
                <a:solidFill>
                  <a:srgbClr val="ffffff"/>
                </a:solidFill>
                <a:latin typeface="Times New Roman"/>
              </a:rPr>
              <a:t>Reisner</a:t>
            </a:r>
            <a:r>
              <a:rPr b="0" lang="en-GB" sz="26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7152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71520" indent="-371520">
              <a:lnSpc>
                <a:spcPct val="80000"/>
              </a:lnSpc>
              <a:spcBef>
                <a:spcPts val="7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imes New Roman"/>
              </a:rPr>
              <a:t>Duty to non-identifiable third persons/sexual partners: Disclose HIV status to patient, warn him of its risk to others and how to prevent transmission</a:t>
            </a: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787320" indent="-33012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Tahoma"/>
              </a:rPr>
              <a:t>Reisner v. Regents of the University of California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, 37 Cal. Rptr. 2d 518 (1995) and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87320" indent="-33012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Tahoma"/>
              </a:rPr>
              <a:t>BT v. Oei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, [1999] NSWSC 108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9CA6C-708E-441A-9ED3-FB73A0E0E75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-100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dbbd71"/>
                </a:solidFill>
                <a:latin typeface="Arial"/>
              </a:rPr>
              <a:t>DUTY TO DISCLOSE</a:t>
            </a:r>
            <a:endParaRPr b="0" lang="en-US" sz="4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98064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1520" indent="-371520">
              <a:lnSpc>
                <a:spcPct val="80000"/>
              </a:lnSpc>
              <a:spcBef>
                <a:spcPts val="726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Tahoma"/>
              </a:rPr>
              <a:t>Duty to warn wife or prospective wife arises as the fundamental right of wife to lead a healthy life outweighs the fundamental right of PLHIV to confidentiality and privacy. 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7152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GB" sz="3000" spc="-1" strike="noStrike">
                <a:solidFill>
                  <a:srgbClr val="ffffff"/>
                </a:solidFill>
                <a:latin typeface="Tahoma"/>
              </a:rPr>
              <a:t>X v. Hospital Z</a:t>
            </a: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, (1998) 8 SCC 296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7152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71520" indent="-371520">
              <a:lnSpc>
                <a:spcPct val="80000"/>
              </a:lnSpc>
              <a:spcBef>
                <a:spcPts val="726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Tahoma"/>
              </a:rPr>
              <a:t>Right to marry suspended. Subsequently restored vide </a:t>
            </a:r>
            <a:r>
              <a:rPr b="0" i="1" lang="en-GB" sz="2900" spc="-1" strike="noStrike">
                <a:solidFill>
                  <a:srgbClr val="ffffff"/>
                </a:solidFill>
                <a:latin typeface="Tahoma"/>
              </a:rPr>
              <a:t>X. v. Hospital Z</a:t>
            </a:r>
            <a:r>
              <a:rPr b="0" lang="en-GB" sz="2900" spc="-1" strike="noStrike">
                <a:solidFill>
                  <a:srgbClr val="ffffff"/>
                </a:solidFill>
                <a:latin typeface="Tahoma"/>
              </a:rPr>
              <a:t>, (2003) 1 SCC 500.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71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71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7631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dbbd71"/>
                </a:solidFill>
                <a:uFillTx/>
                <a:latin typeface="Arial"/>
              </a:rPr>
              <a:t>DISCRIMINATORY PRACTICES ARISING OUT OF BREACH OF CONFIDENTIALITY</a:t>
            </a: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dical Confidential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*stigmatisation/isolation from commun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*denial of access to treat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*loss of employ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orkpla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*termination of employ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t allowed  to wor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*denial of access to future employ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*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igmatisation/isolation from co work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3814C-5D79-43A2-ABCB-C9F4E8634FD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bbd71"/>
                </a:solidFill>
                <a:latin typeface="Arial"/>
              </a:rPr>
              <a:t>CONFIDENTIALITY AT WORKPLACE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41640" indent="-34164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Medical tests generally carried out to determine fitness of employe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640" indent="-34164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Doctor bound to maintain confidentiality of employee examine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640" indent="-34164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Medical details, including HIV status, need not be disclosed; only fitness is required to be disclose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640" indent="-34164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Disclosure of other details permissible only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4320" indent="-303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To determine fitness of employe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4320" indent="-303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To maintain a safe working environmen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4320" indent="-303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To protect the employee concerned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1640" indent="-34164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At time of recruitment, a person is not bound to disclose HIV status unless required by law to do s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4320" indent="-303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Tahoma"/>
              </a:rPr>
              <a:t>MX v. ZY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, AIR 1997 Bom 406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1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dbbd71"/>
                </a:solidFill>
                <a:latin typeface="Arial"/>
              </a:rPr>
              <a:t>National Policy on HIV/AIDS and the World of Work</a:t>
            </a:r>
            <a:r>
              <a:rPr b="1" lang="en-GB" sz="2800" spc="-1" strike="noStrike">
                <a:solidFill>
                  <a:srgbClr val="dbbd71"/>
                </a:solidFill>
                <a:latin typeface="Arial"/>
              </a:rPr>
              <a:t>	</a:t>
            </a:r>
            <a:br>
              <a:rPr sz="2800"/>
            </a:br>
            <a:r>
              <a:rPr b="1" lang="en-US" sz="2800" spc="-1" strike="noStrike">
                <a:solidFill>
                  <a:srgbClr val="dbbd71"/>
                </a:solidFill>
                <a:latin typeface="Arial"/>
              </a:rPr>
              <a:t>- </a:t>
            </a:r>
            <a:r>
              <a:rPr b="1" i="1" lang="en-US" sz="2800" spc="-1" strike="noStrike">
                <a:solidFill>
                  <a:srgbClr val="dbbd71"/>
                </a:solidFill>
                <a:latin typeface="Arial"/>
              </a:rPr>
              <a:t>Ministry of Labour and Employment </a:t>
            </a:r>
            <a:endParaRPr b="0" lang="en-US" sz="2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575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ahoma"/>
              </a:rPr>
              <a:t>There is no justification for asking job applicants or workers to disclose HIV-related personal information. Nor should co-workers be obliged to reveal personal information about fellow workers. 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 algn="just">
              <a:lnSpc>
                <a:spcPct val="80000"/>
              </a:lnSpc>
              <a:spcBef>
                <a:spcPts val="575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ahoma"/>
              </a:rPr>
              <a:t>Personal data covered by medical confidentiality should be stored only by personnel bound by rules on medical secrecy and should be maintained apart from all other personal data. 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 algn="just">
              <a:lnSpc>
                <a:spcPct val="80000"/>
              </a:lnSpc>
              <a:spcBef>
                <a:spcPts val="575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ahoma"/>
              </a:rPr>
              <a:t>In case of medical examination, the employer should be informed only of the conclusion relevant to the particular employment decision. The conclusions should contain no information of a medical nature. They might as appropriate, indicate fitness for the proposed assignment or specify the kinds of jobs and the conditions of work which are medically contra-indicated, either temporarily or permanently. 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just">
              <a:lnSpc>
                <a:spcPct val="8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5027A-C66E-482F-8508-D9024FAAFF9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onfidentiality and RTI Act 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The confidentiality required to be maintained of the medical records of a patient including a convict considering the Regulations framed by the Medical Council of India can not override the provisions of the Right to Information Act.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r. Surupsingh Hrya Naik Vs. State of Maharashtra AIR2007Bom12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Medical reports under RTI Ac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just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person’s HIV status is confidential and is protected in law and can only be disclosed to a third person in limited circumstances. The RTI Act specifically exempts the disclosure of personal information which is not of public interest; information which would cause an unwarranted invasion of privacy; and information which has been received in a fiduciary capacity. Therefore, The RTI Act, 2005 cannot be used to obtain a person’s HIV report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bbd71"/>
                </a:solidFill>
                <a:latin typeface="Arial"/>
              </a:rPr>
              <a:t>Confidentiality and the Courts</a:t>
            </a:r>
            <a:br>
              <a:rPr sz="4000"/>
            </a:b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otection and promotion of fundamental rights and dignity of PLHIV’s is critical to HIV/AIDS prevention and control strategi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LHIV’s face injustices on many fronts and are often are afraid to go to court to vindicate their rights thereby violating their right to equal protection of law and due proces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uppression of identity, whereby a person can litigate under a pseudonym, is a beneficent litigation strategy, long established in the area of family law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LHIV’s can now apply for suppression orders and seek justice without the fear of HIV status becoming public knowledge. [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MX v. ZY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, AIR 1997 Bom 406]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E80B5-F485-4E6D-B40C-1C54ECFC6DE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REMEDIE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84872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ahoma"/>
              </a:rPr>
              <a:t>Civil suits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 (fora: civil courts):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Cause of action: Duty + breach of confidentiality + injury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liefs: Damages and/or injunc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ahoma"/>
              </a:rPr>
              <a:t>Consumer complaints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 (fora: District/State/ National Consumer Commissions)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Cause of action: Deficiency of service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liefs: Damages / compens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ahoma"/>
              </a:rPr>
              <a:t>Writ petitions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 (fora: High Court under Article 226 and Supreme Court under Article 32)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ause of action: violation of right to life and personal liberty or other fundamental right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liefs: Compensation and/or injunc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THE RIGHTS-BASED APPROACH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1" i="1" lang="en-US" sz="3600" spc="-1" strike="noStrike">
                <a:solidFill>
                  <a:srgbClr val="ffffff"/>
                </a:solidFill>
                <a:latin typeface="Tahoma"/>
              </a:rPr>
              <a:t>Paradoxically enough, the only way in which we will deal effectively with the rapid spread of HIV/AIDS is by respecting and protecting the rights of those already exposed to it and those most at risk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.”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75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7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Justice Michael Kirb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7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Former Judge of High Court of Australi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dbbd71"/>
                </a:solidFill>
                <a:latin typeface="Arial"/>
              </a:rPr>
              <a:t>THE  LEGAL  RESPONSE ...</a:t>
            </a: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enerally there have been two types of legal responses to the HIV epidemic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se responses are diametrically opposed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y can be termed as the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isolationist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esponse and the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integrationist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esponse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2"/>
          <p:cNvSpPr/>
          <p:nvPr/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dbbd71"/>
                </a:solidFill>
                <a:latin typeface="Times New Roman"/>
                <a:ea typeface="ＭＳ Ｐゴシック"/>
              </a:rPr>
              <a:t>RIGHTS IN HIV/AID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Rectangle 3"/>
          <p:cNvSpPr/>
          <p:nvPr/>
        </p:nvSpPr>
        <p:spPr>
          <a:xfrm>
            <a:off x="685800" y="1752480"/>
            <a:ext cx="769608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Legal and other policies, which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ＭＳ Ｐゴシック"/>
              </a:rPr>
              <a:t>discriminat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or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ＭＳ Ｐゴシック"/>
              </a:rPr>
              <a:t>isolat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persons living with HIV, hav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ＭＳ Ｐゴシック"/>
              </a:rPr>
              <a:t>mandatory testing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and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ＭＳ Ｐゴシック"/>
              </a:rPr>
              <a:t>breach confidentiality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drive the epidemic undergroun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Laws and policies, which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ＭＳ Ｐゴシック"/>
              </a:rPr>
              <a:t>integrat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persons living with HIV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ＭＳ Ｐゴシック"/>
              </a:rPr>
              <a:t>encourage them to avail of service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which are available and therefore help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ＭＳ Ｐゴシック"/>
              </a:rPr>
              <a:t>curb the spread of HIV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bbd71"/>
                </a:solidFill>
                <a:latin typeface="Arial"/>
              </a:rPr>
              <a:t>LAW ON HIV/AIDS IN INDIA</a:t>
            </a: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central or state law specifically on HIV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draft law on HIV/AIDS is pending with the Union Health Ministry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tly, persons living with HIV whose rights are violated take recourse to provisions in the Constitution and other general laws (employment law, family law, etc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olicies and Guidelines by National AIDS Control Organis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49C43-2FCB-4C75-BCC2-04C15BC92C7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bd71"/>
                </a:solidFill>
                <a:latin typeface="Arial"/>
              </a:rPr>
              <a:t>Operational Guidelines for Integrated Counseling and Testing Centres – 2007</a:t>
            </a:r>
            <a:br>
              <a:rPr sz="2800"/>
            </a:br>
            <a:r>
              <a:rPr b="1" lang="en-US" sz="2800" spc="-1" strike="noStrike">
                <a:solidFill>
                  <a:srgbClr val="dbbd71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dbbd71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dbbd71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dbbd71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dbbd71"/>
                </a:solidFill>
                <a:latin typeface="Arial"/>
              </a:rPr>
              <a:t>-</a:t>
            </a:r>
            <a:r>
              <a:rPr b="1" i="1" lang="en-US" sz="2800" spc="-1" strike="noStrike">
                <a:solidFill>
                  <a:srgbClr val="dbbd71"/>
                </a:solidFill>
                <a:latin typeface="Arial"/>
              </a:rPr>
              <a:t> NACO</a:t>
            </a:r>
            <a:r>
              <a:rPr b="0" i="1" lang="en-US" sz="3200" spc="-1" strike="noStrike">
                <a:solidFill>
                  <a:srgbClr val="dbbd71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Information gathered during counseling must not be shared with others.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Results to be  reported only to the client unless the client states the desire to share the test result with a family member, partner or close friend.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HIV status and other health information can be shared amongst the  health care providers treating the person to ensure that he receives better treatment and care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The person with HIV has the right to privacy, and also the right to exercise informed consent in all decisions about disclosure in respect of his/her status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E6884-E9A5-49CB-8A5F-CD45841D6B3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bd71"/>
                </a:solidFill>
                <a:latin typeface="Arial"/>
              </a:rPr>
              <a:t>Operational Guidelines for Integrated Counseling and Testing Centres – 2007</a:t>
            </a:r>
            <a:br>
              <a:rPr sz="2800"/>
            </a:br>
            <a:r>
              <a:rPr b="1" lang="en-US" sz="2800" spc="-1" strike="noStrike">
                <a:solidFill>
                  <a:srgbClr val="dbbd71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dbbd71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dbbd71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dbbd71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dbbd71"/>
                </a:solidFill>
                <a:latin typeface="Arial"/>
              </a:rPr>
              <a:t>-</a:t>
            </a:r>
            <a:r>
              <a:rPr b="1" i="1" lang="en-US" sz="2800" spc="-1" strike="noStrike">
                <a:solidFill>
                  <a:srgbClr val="dbbd71"/>
                </a:solidFill>
                <a:latin typeface="Arial"/>
              </a:rPr>
              <a:t> NACO</a:t>
            </a:r>
            <a:endParaRPr b="0" lang="en-US" sz="2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ith the consent of the person, Counselor can inform the nurse or the operating physician. The disclosed information must be kept confidential by the attending hospital staff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 HIV-positive person should be encouraged through counselling to disclose his status to his/her spouse or partner and bring the spouse or partner for counselling to an ICTC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after repeated visits the counsellor feels that the client is not ready to share his/her status and the regular sexual partner of the client is deemed to be at risk,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he partner can be notified of the person's positive statu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 This communication with the partner should be, without exception, in a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ace-to-face setting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5B954-39F4-414C-A07D-2A26F1D7AB7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dbbd71"/>
                </a:solidFill>
                <a:latin typeface="Arial"/>
              </a:rPr>
              <a:t>DUTY TO DISCLOSE </a:t>
            </a:r>
            <a:endParaRPr b="0" lang="en-US" sz="4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1520" indent="-371520">
              <a:lnSpc>
                <a:spcPct val="80000"/>
              </a:lnSpc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Duty to warn third party/ partner  arises when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87320" indent="-33012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resence of a special relationship, e.g. doctor and patient;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87320" indent="-33012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Imminent risk of danger;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87320" indent="-33012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Forseeable person who is endangered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873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GB" sz="2800" spc="-1" strike="noStrike">
                <a:solidFill>
                  <a:srgbClr val="ffffff"/>
                </a:solidFill>
                <a:latin typeface="Tahoma"/>
              </a:rPr>
              <a:t>Tarasoff v. Regents of the University of California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7 Cal. 3d 425 (1976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873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2" marL="12034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AFEC6-4791-4875-AE3A-A3059C9FF09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dbbd71"/>
                </a:solidFill>
                <a:latin typeface="Arial"/>
              </a:rPr>
              <a:t>DUTY TO THIRD PARTY </a:t>
            </a:r>
            <a:endParaRPr b="0" lang="en-US" sz="4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1520" indent="-371520">
              <a:lnSpc>
                <a:spcPct val="80000"/>
              </a:lnSpc>
              <a:spcBef>
                <a:spcPts val="7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imes New Roman"/>
              </a:rPr>
              <a:t>Duty arises when doctor fails to properly advise his patient, who is exposed to a communicable disease, and the patient relying, upon his advice, spreads the disease to a third party</a:t>
            </a: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i="1" lang="en-GB" sz="3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787320" indent="-33012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Tahoma"/>
              </a:rPr>
              <a:t>Di Marco v. Lynch Homes-Chester County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, 583 A.2d 422 (1990)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873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71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873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Nitu</cp:lastModifiedBy>
  <dcterms:modified xsi:type="dcterms:W3CDTF">2012-06-29T11:37:26Z</dcterms:modified>
  <cp:revision>38</cp:revision>
  <dc:subject/>
  <dc:title>PowerPoint Presentation</dc:title>
</cp:coreProperties>
</file>